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C4B-D543-4A3F-BCCE-63181CCD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483-78D6-43DD-A78E-13B858BB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6CB-B852-499F-8E6E-7EB71C17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B3C-664C-4C5C-A754-41036FC1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A9C49-AE72-4E49-BC63-D303C5B5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0E4AB-653E-447D-9EBC-1C93C435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802E6-2658-4BC4-8318-E2A2D550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86417-0235-47C9-B6BF-C61D4DDF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CC373-BAE1-4E66-AB03-5F4E08A6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B1A54-7B42-4D37-A131-946B82B6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7E667-7F64-4758-9846-286E4181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290-705A-464B-A7FE-EF2222C4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9BC18-F99F-4EC7-B71A-50F38635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945D4-A47C-48A5-A5FD-A7697E2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57666-F583-4027-B8BE-4E146AC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1721A-54F3-4100-99A7-E1E5C262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8AF47-CA1E-4583-8451-2B57BB6C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1D6-5DBE-45F2-8033-5FF3257F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F76-37D2-4D8B-A8E6-F6EB6860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FD0-4D15-4F59-BD4B-1A0AAB32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F2B-067F-4B5B-99C2-53095896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FD8-C013-43B6-9255-ED7C9688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CE6-4BF4-421A-8123-AED3883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90A-9D8B-486E-BAC8-19A4DF9F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6386-0E1B-4B64-BA02-01F64C8A779E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311C-C793-4615-BC09-7A0764466CCA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ustralian Insec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rvey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sects that my family saw 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back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paper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mas bee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it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oups of ins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id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3141720"/>
            <a:ext cx="287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se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1706400" cy="2011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1733760" cy="2000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76720" y="4869000"/>
            <a:ext cx="237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pd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5940360" y="1268280"/>
            <a:ext cx="2236680" cy="1721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796000" y="2924280"/>
            <a:ext cx="287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lf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1733400" cy="2000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24000" y="83664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-Tailed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>
            <a:off x="7281720" y="1557360"/>
            <a:ext cx="1733760" cy="2000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00600" y="164304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nel Web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6" descr=""/>
          <p:cNvPicPr/>
          <p:nvPr/>
        </p:nvPicPr>
        <p:blipFill>
          <a:blip r:embed="rId3"/>
          <a:stretch/>
        </p:blipFill>
        <p:spPr>
          <a:xfrm>
            <a:off x="2124000" y="4005360"/>
            <a:ext cx="1733760" cy="2000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24360" y="414972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Back Sp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s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Picture 19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1733400" cy="1333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50920" y="155736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 ants was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2" descr=""/>
          <p:cNvPicPr/>
          <p:nvPr/>
        </p:nvPicPr>
        <p:blipFill>
          <a:blip r:embed="rId2"/>
          <a:stretch/>
        </p:blipFill>
        <p:spPr>
          <a:xfrm>
            <a:off x="7020000" y="2205000"/>
            <a:ext cx="1733400" cy="1333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00720" y="2290680"/>
            <a:ext cx="27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Flower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5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733400" cy="1333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348000" y="465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der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73340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411280" y="692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d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4" descr=""/>
          <p:cNvPicPr/>
          <p:nvPr/>
        </p:nvPicPr>
        <p:blipFill>
          <a:blip r:embed="rId2"/>
          <a:stretch/>
        </p:blipFill>
        <p:spPr>
          <a:xfrm>
            <a:off x="7164360" y="1197000"/>
            <a:ext cx="1733400" cy="2000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43280" y="148428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Paper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7" descr=""/>
          <p:cNvPicPr/>
          <p:nvPr/>
        </p:nvPicPr>
        <p:blipFill>
          <a:blip r:embed="rId3"/>
          <a:stretch/>
        </p:blipFill>
        <p:spPr>
          <a:xfrm>
            <a:off x="1979640" y="3933720"/>
            <a:ext cx="1733400" cy="133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08360" y="400536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an W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et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4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1733400" cy="2000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24000" y="198900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mas Bee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7" descr=""/>
          <p:cNvPicPr/>
          <p:nvPr/>
        </p:nvPicPr>
        <p:blipFill>
          <a:blip r:embed="rId2"/>
          <a:stretch/>
        </p:blipFill>
        <p:spPr>
          <a:xfrm>
            <a:off x="6948360" y="981000"/>
            <a:ext cx="1733760" cy="2000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64000" y="1844640"/>
            <a:ext cx="15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pet Bee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0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1733400" cy="2000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24000" y="414972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al Creeper leaf Bee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164360" y="4508640"/>
            <a:ext cx="1733400" cy="132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716360" y="472428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mosa Flea Bee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l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1739880" cy="1320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68360" y="1844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w F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93080" y="2060640"/>
            <a:ext cx="1739880" cy="132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32360" y="227664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ow Saw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403280" y="4221000"/>
            <a:ext cx="2303640" cy="149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80000" y="451008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016000" cy="1562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11280" y="47628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terranean Fruit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521400" y="934920"/>
            <a:ext cx="2443320" cy="1630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43280" y="148428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chinid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2736720" cy="1824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59280" y="314172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uscina Prolapsa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rcRect l="0" t="0" r="49067" b="0"/>
          <a:stretch/>
        </p:blipFill>
        <p:spPr>
          <a:xfrm>
            <a:off x="6084720" y="4627440"/>
            <a:ext cx="2513160" cy="1936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35280" y="4869000"/>
            <a:ext cx="23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Brown Robber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9:17:31Z</dcterms:created>
  <dc:creator>georga</dc:creator>
  <dc:description/>
  <dc:language>en-US</dc:language>
  <cp:lastModifiedBy>carol.giampaoli</cp:lastModifiedBy>
  <dcterms:modified xsi:type="dcterms:W3CDTF">2009-04-30T00:43:16Z</dcterms:modified>
  <cp:revision>13</cp:revision>
  <dc:subject/>
  <dc:title>Australian Insects</dc:title>
</cp:coreProperties>
</file>